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6B3-4CF2-4C41-AFE5-DBE8A589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963-CF42-4712-A7D5-F2849DC9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4BE-0E9D-4E8A-8079-39EE71FD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9A5-40D7-49D4-9974-F552DFEA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4EA-04E5-47FA-8246-CED1E604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288-EC26-495D-9CD3-F4BD2919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AAA-CEE1-432C-8D8E-6A72ACC6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FFC-7C96-41C1-9C17-76C7D874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B94-50AA-4211-9351-9D346E05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5EB-D82D-49FB-8723-AD2F0FCB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ED9-8AAF-4082-97EF-4A00E09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67E-5A97-4A25-8816-BA8FF405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99F5-A9DF-4D60-8C03-BEB68FC95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tutorvista.com/.../protective-tissues.php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.tutorvista.com/content/plant-water-relations/stomatal-movement--dicot-plants.jpe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IM K8 Lab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stimating # of Stomata in a Lettuce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Lisa M. C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ny pores located on bottom of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al sh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 little bit like cat e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kidney-shaped cells (guard cells) are found on each side of the s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loroplasts are also found in the guard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239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ease extra water from the lea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alled transpira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in carbon diox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eas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ard cells swell &amp; shrink to control the opening &amp; closing of s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loroplasts within guard cells carry out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059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the next slide to view a video that explains and shows the function of stoma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sachin joshi _ botany student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1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909800" y="649116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nas.org/content/101/4/918/F1.lar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95680" y="2286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8600" y="30492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X Total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agnified section of the leaf you see in figure b. Notice there are about 18 sto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800600" y="30492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)       40X Total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nderside of a leaf         (not enough magnification to see the stoma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omic Sans MS"/>
              </a:rPr>
              <a:t>This picture also shows the lettuce leaf’s lower epidermis (~400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5181480"/>
            <a:ext cx="868680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Comic Sans MS"/>
              </a:rPr>
              <a:t>The labeled parts are what you will identify in la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stoma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000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990720" y="48769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ma.ohio-state.edu/biology/images/stom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Leaf Epidermis (~1000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icture shows a plant leaf’s lower epidermis under the micro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carefully at the labeled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se are the parts that you will label during l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surface view of stomata "/>
          <p:cNvPicPr/>
          <p:nvPr/>
        </p:nvPicPr>
        <p:blipFill>
          <a:blip r:embed="rId1"/>
          <a:stretch/>
        </p:blipFill>
        <p:spPr>
          <a:xfrm>
            <a:off x="152280" y="1523880"/>
            <a:ext cx="5105520" cy="4589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228600" y="6172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utorvista.com/.../protective-tissues.php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Labeled diagram of stomata 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&amp; surrounding guard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tomatal-movement--dicot-plant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225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0" y="617220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.tutorvista.com/content/plant-water-relations/stomatal-movement--dicot-plants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38:13Z</dcterms:created>
  <dc:creator>LClark</dc:creator>
  <dc:description/>
  <dc:language>en-US</dc:language>
  <cp:lastModifiedBy>clark</cp:lastModifiedBy>
  <dcterms:modified xsi:type="dcterms:W3CDTF">2010-01-13T02:17:23Z</dcterms:modified>
  <cp:revision>8</cp:revision>
  <dc:subject/>
  <dc:title>Slide 1</dc:title>
</cp:coreProperties>
</file>